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EDED-C04F-4B0F-ABF3-35198BE5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E40-39E7-45F3-BDA9-D9AD652C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2FA4-4851-4069-93A4-4032C2F7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4D4F-1F40-4EE7-807E-3B151EBCE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1289-3733-454B-B88C-459BC406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ECAA-4E7B-4EC6-9EE7-7CD44584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0E32-2A9C-47DC-B544-464CF980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557C-D71C-4DDA-B925-767E937F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3A7E-0813-4DAD-A881-A50377F1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E7D0-8017-4342-89D7-2D162392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35D9-7A6F-4A86-BF8E-278BC762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7445-DFD9-408E-937F-EC22517E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3EB1-3A5B-4AD4-8997-27366B86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9C75-BA67-4B56-B7FC-C783ABB5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07FE-0ECF-4480-BA9B-EC2719BE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E27A-429E-4FBD-BEFB-8D680DBE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9EBF-93DB-48FC-AB54-FA3B45F1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F4D-A815-49F1-BE87-55C9DBF3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D77-3030-44A3-B424-255F695A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D976-0DAD-488F-B2C0-B246D228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57D-64BB-4DA8-ACDB-C058AB8D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CCF-A7E7-480E-A05F-08CAE42C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5ADB-22D5-4FE8-8837-B8FDA3E8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08E-A254-4CA6-9788-43386BC9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88EE-A9C7-416A-BC76-4343B5693777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8938-BFF8-476A-902F-C7BCA5BB5937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000000"/>
                </a:solidFill>
                <a:latin typeface="Elephant"/>
              </a:rPr>
              <a:t>- </a:t>
            </a:r>
            <a:r>
              <a:rPr b="1" i="1" lang="en-US" sz="4400" spc="-1" strike="noStrike">
                <a:solidFill>
                  <a:srgbClr val="000000"/>
                </a:solidFill>
                <a:latin typeface="Elephant"/>
              </a:rPr>
              <a:t>CARTEA</a:t>
            </a:r>
            <a:r>
              <a:rPr b="1" i="1" lang="ro-RO" sz="4400" spc="-1" strike="noStrike">
                <a:solidFill>
                  <a:srgbClr val="000000"/>
                </a:solidFill>
                <a:latin typeface="Elephant"/>
              </a:rPr>
              <a:t>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58920" y="5229360"/>
            <a:ext cx="1468440" cy="1628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332000" y="404640"/>
            <a:ext cx="1770120" cy="1586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236000" y="260280"/>
            <a:ext cx="1628640" cy="1862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093080" y="4941720"/>
            <a:ext cx="1819080" cy="1749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4140360" y="0"/>
            <a:ext cx="17874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IMPORTANT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Elephant"/>
              </a:rPr>
              <a:t>Cartea ne ajută să cunoaştem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Elephant"/>
              </a:rPr>
              <a:t>-nume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Elephant"/>
              </a:rPr>
              <a:t>-date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Elephant"/>
              </a:rPr>
              <a:t>-fapte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Elephant"/>
              </a:rPr>
              <a:t>-evenimente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Elephant"/>
              </a:rPr>
              <a:t>-locuri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Elephant"/>
              </a:rPr>
              <a:t>-personalităţi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610080" cy="3454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380360" y="404640"/>
            <a:ext cx="1544400" cy="19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Exerciţi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12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1. Ordonează cuvintele pentru a obţine o propziţie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cartea,cel,este,bun, mai,priete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19640" y="198072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2. Bifează care sunt datoriile şcolarilor faţă de cărţ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Să le pastreze cu grijă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Să le citescă cu atenţie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Să le îndoaie paginile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Să le scrie cu creionul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Să le rupă foile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Să le păstreze în bibliotecă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Să le învelească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Să le murdărească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72360" y="404640"/>
            <a:ext cx="1779480" cy="1555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92360" y="4149720"/>
            <a:ext cx="2950920" cy="2532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140360" y="404640"/>
            <a:ext cx="1782720" cy="14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Completeaz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Pentru mine cartea este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un obiect necesar,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un sfătuitor tainic şi înţelept,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...............................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................................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................................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451640" y="476280"/>
            <a:ext cx="1413000" cy="144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508720" y="2997360"/>
            <a:ext cx="3373200" cy="3438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219640" y="907920"/>
            <a:ext cx="15080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GHICITOR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Arial"/>
              </a:rPr>
              <a:t>Are foi şi nu e po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Arial"/>
              </a:rPr>
              <a:t>Îţi vorbeşte ca un o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Arial"/>
              </a:rPr>
              <a:t>Şi cu cât o foloseşti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Arial"/>
              </a:rPr>
              <a:t>Tot mai mult o îndrăgeşti</a:t>
            </a:r>
            <a:r>
              <a:rPr b="0" lang="ro-RO" sz="36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Arial"/>
              </a:rPr>
              <a:t>Câmpu-i alb,  oile-s neg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Arial"/>
              </a:rPr>
              <a:t>Cin’ le vede, nu le crede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Arial"/>
              </a:rPr>
              <a:t>Cin’ le paşte, le cunoaşt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3333"/>
                </a:solidFill>
                <a:latin typeface="Arial"/>
              </a:rPr>
              <a:t>Ce este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367000" cy="1830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492360" y="5229360"/>
            <a:ext cx="1839960" cy="1387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607160" y="4724280"/>
            <a:ext cx="153684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PROVERB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Ai carte ,ai parte!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Cine ştie carte are patru ochi!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Cartea este o comoară de învăţături!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Cartea este cea mai mare avuţie!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Cartea nu foloseşte decât celui ce înţelege ce stă scris în ea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3333"/>
                </a:solidFill>
                <a:latin typeface="Arial"/>
              </a:rPr>
              <a:t>Citind, trebuie să faci efortul să înţelegi ceea ce citeşti şi să reţii ceea ce înţelegi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5373720"/>
            <a:ext cx="1846080" cy="1297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084720" y="549360"/>
            <a:ext cx="2808360" cy="2504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47640" y="5877000"/>
            <a:ext cx="4824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ro-RO" sz="4000" spc="-1" strike="noStrike">
                <a:solidFill>
                  <a:srgbClr val="000000"/>
                </a:solidFill>
                <a:latin typeface="Elephant"/>
              </a:rPr>
              <a:t>Cartea</a:t>
            </a:r>
            <a:br>
              <a:rPr sz="4000"/>
            </a:br>
            <a:r>
              <a:rPr b="0" lang="ro-RO" sz="32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ro-RO" sz="32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ro-RO" sz="3200" spc="-1" strike="noStrike">
                <a:solidFill>
                  <a:srgbClr val="000000"/>
                </a:solidFill>
                <a:latin typeface="Elephant"/>
              </a:rPr>
              <a:t>                   </a:t>
            </a:r>
            <a:r>
              <a:rPr b="0" lang="ro-RO" sz="2400" spc="-1" strike="noStrike">
                <a:solidFill>
                  <a:srgbClr val="000000"/>
                </a:solidFill>
                <a:latin typeface="Elephant"/>
              </a:rPr>
              <a:t>de Constantin Drago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O carte aleas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E ca o cas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Cu multe ramur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Păsări pe ramuri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O carte rar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E o comoară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Cine-o găseşt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Se-mbogăţeşt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O carte este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Ca o povest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Cine o şti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O povesteşt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Cine-o ascultă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Acela creşte;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Cine-o citeşte,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Cine-o cinsteşt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Se-nnemureşt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Cu omen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Cu veşnicia!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03280" y="333360"/>
            <a:ext cx="1709640" cy="1598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96360" y="1916280"/>
            <a:ext cx="1547640" cy="3973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635280" y="4437000"/>
            <a:ext cx="1443240" cy="1824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564000" y="1557360"/>
            <a:ext cx="1555560" cy="1812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7812000" y="260280"/>
            <a:ext cx="10796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Elephant"/>
              </a:rPr>
              <a:t>Glumă: </a:t>
            </a:r>
            <a:r>
              <a:rPr b="0" lang="ro-RO" sz="3200" spc="-1" strike="noStrike">
                <a:solidFill>
                  <a:srgbClr val="000000"/>
                </a:solidFill>
                <a:latin typeface="Elephant"/>
              </a:rPr>
              <a:t>Ţăranul şi ochelarii de ci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Un om a auzit pe altul spunând că nu poate să citescă pentru că şi-a uitat ochelarii acasă.El căscă ochii mari şi pricepu că e de ajuns să ai ochelari ca să poţi citi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Şi omul a plecat la oraş, a intrat într-un magazin şi a cerut “ochelari pentru citit”.Dar cu nici un fel de ochelari nu şi-a putut îndeplini gândul.După ce răvăşi jumătate de prăvălie, negustorul îl întrebă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- Dar, omule, ştii să citeşti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333333"/>
                </a:solidFill>
                <a:latin typeface="Arial"/>
              </a:rPr>
              <a:t>- Dacă ştiam să citesc, mai veneam eu la dumnevoatră să cer ochelari?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740720" y="4365720"/>
            <a:ext cx="1187280" cy="1128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1108080" cy="1032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156360" y="5516640"/>
            <a:ext cx="1584360" cy="13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332000" y="5805360"/>
            <a:ext cx="1511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7:27:44Z</dcterms:created>
  <dc:creator>TASE</dc:creator>
  <dc:description/>
  <dc:language>en-US</dc:language>
  <cp:lastModifiedBy>IULIA</cp:lastModifiedBy>
  <dcterms:modified xsi:type="dcterms:W3CDTF">2010-01-14T15:51:35Z</dcterms:modified>
  <cp:revision>4</cp:revision>
  <dc:subject/>
  <dc:title>-CARTEA-</dc:title>
</cp:coreProperties>
</file>